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FCC-6A58-4C5D-9A22-2B03DBF3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002-E087-44EC-B5C0-70FF0B72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FE4-2380-4170-A2B7-75759197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B01-A050-44E7-99B0-DE1647EC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DAC-4D69-410F-A997-8CAAC068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3FC-C96E-46D3-AC95-E1610672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162-3C2B-4FF3-89D5-74A987A5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42E-87D5-49D0-A0FA-A4343353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4EC-B530-4183-807B-783E92B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95C-802D-4148-B2AB-6C1D88E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C90-876F-4F36-BBF3-47DC3573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D42-2D35-491B-9907-8887E101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CE38-6999-4D68-ADC7-E4893F3C4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3794"/>
                </a:moveTo>
                <a:lnTo>
                  <a:pt x="28599" y="10800"/>
                </a:lnTo>
                <a:lnTo>
                  <a:pt x="1458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how many lines of symmetry does this shap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038480" y="21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038480" y="3098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40384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038480" y="40640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314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408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4360" y="1569600"/>
            <a:ext cx="2610000" cy="3861360"/>
            <a:chOff x="234360" y="1569600"/>
            <a:chExt cx="2610000" cy="3861360"/>
          </a:xfrm>
        </p:grpSpPr>
        <p:sp>
          <p:nvSpPr>
            <p:cNvPr id="115" name=""/>
            <p:cNvSpPr/>
            <p:nvPr/>
          </p:nvSpPr>
          <p:spPr>
            <a:xfrm rot="20437200">
              <a:off x="785880" y="2787120"/>
              <a:ext cx="152388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437200">
              <a:off x="367920" y="1792080"/>
              <a:ext cx="152388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 rot="20449800">
              <a:off x="1186920" y="4142880"/>
              <a:ext cx="1524240" cy="106704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676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hape has 2 lines of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6960" y="1605960"/>
            <a:ext cx="2610000" cy="3861360"/>
            <a:chOff x="246960" y="1605960"/>
            <a:chExt cx="2610000" cy="3861360"/>
          </a:xfrm>
        </p:grpSpPr>
        <p:sp>
          <p:nvSpPr>
            <p:cNvPr id="122" name=""/>
            <p:cNvSpPr/>
            <p:nvPr/>
          </p:nvSpPr>
          <p:spPr>
            <a:xfrm rot="20437200">
              <a:off x="798480" y="2823480"/>
              <a:ext cx="152388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437200">
              <a:off x="380520" y="1828440"/>
              <a:ext cx="152388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20449800">
              <a:off x="1199520" y="4179240"/>
              <a:ext cx="1524240" cy="106704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V="1">
            <a:off x="25200" y="2898720"/>
            <a:ext cx="3073680" cy="113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4880" y="1524600"/>
            <a:ext cx="1451880" cy="403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09880" y="533520"/>
            <a:ext cx="449604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6960" y="1605960"/>
            <a:ext cx="2610000" cy="3861360"/>
            <a:chOff x="246960" y="1605960"/>
            <a:chExt cx="2610000" cy="3861360"/>
          </a:xfrm>
        </p:grpSpPr>
        <p:sp>
          <p:nvSpPr>
            <p:cNvPr id="130" name=""/>
            <p:cNvSpPr/>
            <p:nvPr/>
          </p:nvSpPr>
          <p:spPr>
            <a:xfrm rot="20437200">
              <a:off x="798480" y="2823480"/>
              <a:ext cx="152388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437200">
              <a:off x="380520" y="1828440"/>
              <a:ext cx="152388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 rot="20449800">
              <a:off x="1199520" y="4179240"/>
              <a:ext cx="1524240" cy="106704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25200" y="2898720"/>
            <a:ext cx="3073680" cy="113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4880" y="1524600"/>
            <a:ext cx="1451880" cy="403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ines of symmetry does this shap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4038480" y="21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4038480" y="3098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038480" y="40640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14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08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00360" y="17524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50840" y="2892600"/>
            <a:ext cx="3355920" cy="182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04920" y="2971800"/>
            <a:ext cx="304776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1676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hape has 3 lines of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9880" y="533520"/>
            <a:ext cx="449604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00360" y="17524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50840" y="2892600"/>
            <a:ext cx="3355920" cy="182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560" y="2971440"/>
            <a:ext cx="29718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how many lines of symmetry does this shap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038480" y="21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038480" y="3098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40384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40640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314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408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62120" y="438696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167652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shape has only 2 lines of symmet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2120" y="438696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12960" y="2209680"/>
            <a:ext cx="0" cy="44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40388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9880" y="533520"/>
            <a:ext cx="449604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62120" y="438696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12960" y="2209680"/>
            <a:ext cx="0" cy="44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0388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905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join two shapes together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114800"/>
            <a:ext cx="1143000" cy="121932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68200 h 1219320"/>
              <a:gd name="textAreaBottom" fmla="*/ 951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362320"/>
            <a:ext cx="1295280" cy="114300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724280"/>
            <a:ext cx="2362320" cy="1295640"/>
          </a:xfrm>
          <a:prstGeom prst="parallelogram">
            <a:avLst>
              <a:gd name="adj" fmla="val 455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990720" y="2894760"/>
            <a:ext cx="1143000" cy="121932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68200 h 1219320"/>
              <a:gd name="textAreaBottom" fmla="*/ 951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934320" y="3504600"/>
            <a:ext cx="1295280" cy="114300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39920" y="3429000"/>
            <a:ext cx="2362320" cy="1295280"/>
          </a:xfrm>
          <a:prstGeom prst="parallelogram">
            <a:avLst>
              <a:gd name="adj" fmla="val 4559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hape has line symmetry if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437920" y="1981080"/>
            <a:ext cx="3276720" cy="3276720"/>
            <a:chOff x="2437920" y="1981080"/>
            <a:chExt cx="3276720" cy="3276720"/>
          </a:xfrm>
        </p:grpSpPr>
        <p:sp>
          <p:nvSpPr>
            <p:cNvPr id="46" name=""/>
            <p:cNvSpPr/>
            <p:nvPr/>
          </p:nvSpPr>
          <p:spPr>
            <a:xfrm>
              <a:off x="3124080" y="1981080"/>
              <a:ext cx="2590560" cy="2590920"/>
            </a:xfrm>
            <a:prstGeom prst="rtTriangl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2437920" y="1981080"/>
              <a:ext cx="3276360" cy="32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06668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draw a line through it so that one part is exactly the same as the other pa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3794"/>
                </a:moveTo>
                <a:lnTo>
                  <a:pt x="28599" y="10800"/>
                </a:lnTo>
                <a:lnTo>
                  <a:pt x="1458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hapes have one line of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629400" y="2155680"/>
            <a:ext cx="838080" cy="2438280"/>
            <a:chOff x="6629400" y="2155680"/>
            <a:chExt cx="838080" cy="2438280"/>
          </a:xfrm>
        </p:grpSpPr>
        <p:sp>
          <p:nvSpPr>
            <p:cNvPr id="52" name=""/>
            <p:cNvSpPr/>
            <p:nvPr/>
          </p:nvSpPr>
          <p:spPr>
            <a:xfrm>
              <a:off x="6629400" y="2155680"/>
              <a:ext cx="838080" cy="68580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629400" y="2841480"/>
              <a:ext cx="838080" cy="175248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054920" y="13176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3831600">
            <a:off x="3314520" y="3847680"/>
            <a:ext cx="1676160" cy="1905120"/>
          </a:xfrm>
          <a:custGeom>
            <a:avLst/>
            <a:gdLst>
              <a:gd name="textAreaLeft" fmla="*/ 368640 w 1676160"/>
              <a:gd name="textAreaRight" fmla="*/ 1307520 w 1676160"/>
              <a:gd name="textAreaTop" fmla="*/ 418680 h 1905120"/>
              <a:gd name="textAreaBottom" fmla="*/ 1486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442600" y="3934440"/>
            <a:ext cx="3414240" cy="168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311600">
            <a:off x="1523880" y="1549080"/>
            <a:ext cx="1371600" cy="2438280"/>
          </a:xfrm>
          <a:prstGeom prst="pentagon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166040" y="1454760"/>
            <a:ext cx="2087280" cy="262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3794"/>
                </a:moveTo>
                <a:lnTo>
                  <a:pt x="28599" y="10800"/>
                </a:lnTo>
                <a:lnTo>
                  <a:pt x="1458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hapes have two lines of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819520"/>
            <a:ext cx="914400" cy="243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3124080"/>
            <a:ext cx="3047760" cy="990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21337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0384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286000"/>
            <a:ext cx="0" cy="281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65760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3794"/>
                </a:moveTo>
                <a:lnTo>
                  <a:pt x="28599" y="10800"/>
                </a:lnTo>
                <a:lnTo>
                  <a:pt x="1458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shapes have more than 2 lines of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1055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lines of symmetry has a square g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743200"/>
            <a:ext cx="1523880" cy="1447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486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quare has 4 lines of symme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2743200"/>
            <a:ext cx="1523880" cy="1447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2080" y="1905120"/>
            <a:ext cx="0" cy="30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01840" y="2346480"/>
            <a:ext cx="243828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133720" y="2438280"/>
            <a:ext cx="243828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4765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ines of symmetry does this shap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4038480" y="21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038480" y="3098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40640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14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08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92640" y="2409120"/>
            <a:ext cx="2272320" cy="2877840"/>
            <a:chOff x="692640" y="2409120"/>
            <a:chExt cx="2272320" cy="2877840"/>
          </a:xfrm>
        </p:grpSpPr>
        <p:sp>
          <p:nvSpPr>
            <p:cNvPr id="90" name=""/>
            <p:cNvSpPr/>
            <p:nvPr/>
          </p:nvSpPr>
          <p:spPr>
            <a:xfrm rot="20437200">
              <a:off x="1243440" y="3627000"/>
              <a:ext cx="152424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437200">
              <a:off x="826200" y="2631600"/>
              <a:ext cx="152424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92640" y="2409120"/>
            <a:ext cx="2272320" cy="2877840"/>
            <a:chOff x="692640" y="2409120"/>
            <a:chExt cx="2272320" cy="2877840"/>
          </a:xfrm>
        </p:grpSpPr>
        <p:sp>
          <p:nvSpPr>
            <p:cNvPr id="94" name=""/>
            <p:cNvSpPr/>
            <p:nvPr/>
          </p:nvSpPr>
          <p:spPr>
            <a:xfrm rot="20437200">
              <a:off x="1243440" y="3627000"/>
              <a:ext cx="152424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437200">
              <a:off x="826200" y="2631600"/>
              <a:ext cx="152424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162080" y="1981080"/>
            <a:ext cx="144792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6765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hape has 1 line of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9880" y="533520"/>
            <a:ext cx="449604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92640" y="2409120"/>
            <a:ext cx="2272320" cy="2877840"/>
            <a:chOff x="692640" y="2409120"/>
            <a:chExt cx="2272320" cy="2877840"/>
          </a:xfrm>
        </p:grpSpPr>
        <p:sp>
          <p:nvSpPr>
            <p:cNvPr id="102" name=""/>
            <p:cNvSpPr/>
            <p:nvPr/>
          </p:nvSpPr>
          <p:spPr>
            <a:xfrm rot="20437200">
              <a:off x="1243440" y="3627000"/>
              <a:ext cx="152424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0437200">
              <a:off x="826200" y="2631600"/>
              <a:ext cx="152424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62080" y="1981080"/>
            <a:ext cx="144792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1:30:05Z</dcterms:created>
  <dc:creator>Rhona Dick</dc:creator>
  <dc:description/>
  <dc:language>en-US</dc:language>
  <cp:lastModifiedBy>Property of</cp:lastModifiedBy>
  <dcterms:modified xsi:type="dcterms:W3CDTF">2011-01-11T12:11:19Z</dcterms:modified>
  <cp:revision>22</cp:revision>
  <dc:subject/>
  <dc:title>Line Symmetry</dc:title>
</cp:coreProperties>
</file>